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55B-9FC8-4C95-9D3A-E1498A67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BC4-8C2A-485B-B277-0CE52AC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A78-5D9F-462A-8E27-16684045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067-93C8-47CC-8A20-62D2F189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8B8-9C64-453D-906F-F120DD5F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B8B-E6DD-45C8-838F-E772FA45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FE2-20A0-488A-8B35-7FE25DDB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994-84C5-4882-8157-489A676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53F-4EE0-45F6-BA17-830E65A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F0C-FADC-469B-8F00-5932F6E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1E6-B085-4DB0-8F67-2648E72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206-81FF-4F40-8343-425F349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6B6B-CDD5-4790-A7C5-FF2FB3DFB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Stratified Analy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46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7467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77004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09680" y="5029200"/>
            <a:ext cx="4267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467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4021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586728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89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0" y="3649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11480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467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56:14Z</dcterms:modified>
  <cp:revision>43</cp:revision>
  <dc:subject/>
  <dc:title>PowerPoint Presentation</dc:title>
</cp:coreProperties>
</file>